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70A-239A-48F7-8FE5-6A264408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502-1748-48C6-B2B4-F78D6592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DD0-6D3B-47E4-86A8-8D2EE8FB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E5D-6C80-4222-B2E3-2566C267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A21-4FE0-4FF4-8D89-E40BEB81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9E9-9B0E-40A2-817F-7200338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250-7323-41AF-9EF9-0C6B2FCE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528-0782-4770-8001-E7094F8A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41B-ED73-40B4-89DF-9024538B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88B-5A47-4465-BD53-4AF26024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E44-372A-49C8-AC7F-E567E1DD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C47-1A10-4DB4-99B1-A0847027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B6FA-9346-42A7-81D1-4B0B83C5BD7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inedu.sk/usmernenie-k-ssjn-vzdelavanie-pedagogickych-a-odbornych-zamestnancov-&#8211;-zoznam-absolventov-vzdelavania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tvorba rozpoč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BlokTextu 5"/>
          <p:cNvSpPr/>
          <p:nvPr/>
        </p:nvSpPr>
        <p:spPr>
          <a:xfrm>
            <a:off x="250920" y="5769000"/>
            <a:ext cx="3240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Informačné seminá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č. OPLZ-PO1/2018/DOP/1.1.1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Čitateľská, matematická a prírodovedná gramotnosť v základnej škole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 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objekt pre obsah 5" descr=""/>
          <p:cNvPicPr/>
          <p:nvPr/>
        </p:nvPicPr>
        <p:blipFill>
          <a:blip r:embed="rId1"/>
          <a:stretch/>
        </p:blipFill>
        <p:spPr>
          <a:xfrm>
            <a:off x="1612800" y="1600200"/>
            <a:ext cx="591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Prijímateľ NFP" sa uvedie názov prijímateľa podľa zmluvy o 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Názov projektu" sa uvedie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Kód ŽoP ITMS2014+ " sa uvedie kód príslušnej žiadosti o platbu, v ktorej budú výdavky za extra hodiny predložené na preplat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A "Poradové číslo" poradové číslo pedagogického zamestnanca "extra hodiny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B a C  "Priezvisko a Meno" uvedie sa celé priezvisko a meno pedagogického zamestnanca  "s extra hodinami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D  "Názov vzdelávacej aktivity - extra hodiny" uvedie sa názov vyučovacieho predmetu, na ktorom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F  "Škola" uvedie sa škola, na ktorej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X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 G, H a  I   "Počet hodín" uvedie sa  za každý mesiac samostatne celkový  počet hodín v mesiaci realizovaných nad rámec hodín financovaných zo štátneho rozpočtu , 1 extra hodina = 60 min, 45 min. priama výchovno- vzdelávacia činnosť (priama vyučovacia povinnosť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5 min. ostatné činnosti súvisiace s priamou výchovno-vzdelávacou činnosťou (t.j. príprava na priamu vyučovaciu povinnosť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J  "Spolu" sumár za štvrťrok - vyplní sa automatick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iadok 27 "Meno a podpis štatutárneho orgánu prijímateľa" uvedie sa meno a vlastnoručný podpis štatutárneho orgánu prijímateľ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28 "Dátum vypracovania" uvedie sa dátum vypracovania zoznamu vo formáte DD.MM.RRRR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covanie činnosti a aktivít  pedagogických klub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pedagogických kluboch (ďalej aj „klub“) sa stretávajú a vymieňajú si skúsenosti vybrané kategórie pedagogických zamestnancov, ktorí vo svojom voľnom čase majú záujem vzdelávať sa a získavať nové poznatky a vymieňať si navzájom skúse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účasť v pedagogických kluboch 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je výlučne určená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nasledovné kategórie pedagogických zamestnancov: učitelia, pedagogickí asistenti, vychovávatelia a majstri odborného výcvi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hlavným účelom týchto klubov je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skytnúť platformu pre aktívne sieťovanie a spoločnú spoluprácu pedagogických zamestnancov na spoločných témach a pre medzigeneračnú výmenu medzi mladými a staršími/skúsenejšími pedagogickými zamestnancam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10,60 EUR/1 hodina/pedagogický zamestnane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íprava a účasť na stretnutiach klubu za účelom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y skúseností a best practice z vlastnej vyučovacej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ieskumno-analytickej a tvorivej činnosti týkajúca sa výchovy a vzdelávania a vedúca k jej zlepšeniu a identifikácii osvedčených pedagogických skúsen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y skúseností pri využívaní  moderných vyučovacích postupov a metód podporujúcich inovácie vo vzdeláva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u skúseností v oblasti medzipredmetových vzťah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obsahové zameranie klubu závisí od zloženia resp. zastúpenia jeho členov a/alebo od ich vyučovacích predmetov. Každý klub má svoj harmonogram činnosti na príslušný školský rok členený na mesiac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definovaní svojej činnosti si každý klub musí vybrať minimálne jednu tému, ktorá je tematicky v súlade s obsahom výzvy na predkladanie projektov. 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Činnosť aktivít klubu sa musí zameriavať na témy ako sú výsledky medzinárodných meraní PISA a možné spôsoby/cesty pre ich zlepšenie, implementovanie medzipredmetových vzťahov vo vzdelávacom procese, identifikovanie problémov vo vzdelávaní a možné spôsoby ich riešenia, výmena skúsenosti s aplikovaním nových progresívnych metód a foriem práce, výmena skúsenosti s využívaním didaktických postupov a metód orientovaných na rozvoj kľúčových kompetencií žiakov, výmena skúseností  s využívaním nových progresívnych a moderných nástrojov a didaktickej techniky – IKT, na prevenciu závislostí, rasizmu, násilia a iných foriem/druhov extrémneho spr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in. počet členov klubu je 3 učitelia a max. 10 učiteľov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Klub môžu tvoriť učitelia z jednej školy, ale aj/alebo učitelia z viacerých škôl v okrese resp. v kraji. Na základe spoločného rozhodnutia členov klubu je  jeden z pedagogických zamestnancov vymenovaný/určený za koordinátora klubu, ktorý organizuje a koordinuje činnosť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lub sa stretáva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aximálne dvakrát mesačn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Dĺžka jedného stretnutia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lubu je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ax. 3 hodiny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každý klub si vypracuje plán svojej prác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án práce klubu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usí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obsahovať opis a zdôvodnenie plánovanej činnosti, rámcový program stretnutí, dĺžku ich trvania,  predbežné termíny realizácie činnosti a počet členov klub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každý klub musí zverejňovať dosiahnuté výsledky a výstupy svojej činnosti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webovom sídle prijímateľa resp. projektu. Okrem toho výsledky a výstupy práce klubu musia byť zverejnené a dostupné pre všetkých pedagogických zamestnancov a pre zainteresovanú verejnosť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a výsledky a výstupy klubu sa považujú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právy o činnosti  klubu (t.j. správy zo zasadnutí klubov) a písomné výstupy klubu (napr. osvedčená pedagogická prax, analýza s odporúčaniami, správa s odporúčaniami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Štruktúra činnosti klubu – 2 varianty/typy klubov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kluby bez písomného výstupu</a:t>
            </a: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– činnosti preplácané v rámci JC sa budú týkať zasadnutí klubov a výmeny skúseností prebiehajúcej na týchto zasadnutia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aximálny  rozsah hodín na 1 klub na 1 školský polrok = 30 hodín na zasadnutia klubu na 1 PZ ako účastníka klubovej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kluby s písomným výstupom</a:t>
            </a: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- činnosti preplácané v rámci JC sa budú týkať zasadnutí klubov a výmeny skúseností prebiehajúcej na týchto zasadnutiach; navyše bude za každý školský polrok písomný výstup práce klubu - napr. osvedčenú pedagogickú prax, analýzu s odporúčaniami, správu s odporúčaniami. Maximálny  počet hodín na tvorbu tohto výstupu je 50 hodín na jeden klub na jeden školský polro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aximálny  rozsah hodín na 1 klub na 1 školský polrok = 30 hodín na zasadnutia klubu na 1 PZ ako účastníka klubovej činnosti a 50 hodín na 1 klub na tvorbu písomného výstupu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Nie je možné kombinovať tieto 2 varianty v rámci jedného klubu. Klub/žiadateľ si vybral jeden z vyššie uvedených variantov/typov pri tvorbe projektu (v rámci žiadosti o NFP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školu platia nasledovné limit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aždá škola môže mať na  len jeden klub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ten istý pedagogický zamestnanec môže byť účastníkom len jedného klubu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ten istý pedagogický zamestnanec môže byť účastníkom vo viacerých kluboch s rôznymi/rozdielnymi vyučovacími predmetmi a  prierezovými tém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 každého zasadnutia/stretnutia klubu bude vyhotovená správa o činnosti klubu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Uvedené sa týka oboch variantov/typov klubov.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Správa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bude obsahovať  stručné zhrnutie stretnutia klubu – témy, ktoré boli predmetom stretnutia, závery a odporúčania zo stretnutia. Prílohou správy bude prezenčná listina podpísaná účastníkmi klubu, ktorí sa daného zasadnutia zúčastn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štruktúra písomného výstupu klubu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– úvod (stručná anotácia, kľúčové slová, zámer a priblíženie témy písomného výstupu), jadro (popis témy/problém), záver (zhrnutie a odporúčania pre činnosť pedagogických zamestnanc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formuláre :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1) plán práce klubu; 2) správa o činnosti klubu; 3) písomný výstup klubu ; 4) pedagogický klub menný zoznam; 5) pedagogické kluby zdroje financo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pedagogicke-kluby-hodina-ucasti-pedagogickeho-zamestnanca-na-aktivitach-pedagogickeho-klubu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 rámci administratívnej finančnej kontroly žiadosti o 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C bude preplatená  raz za školský polrok, t.j. za obdobie 5 mesiacov. Počas letných prázdnin sa aktivity v školských kluboch nerealizuj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každej ŽoP predloženej prijímateľom bude overené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án práce klubu a harmonogram činnosti klubu na príslušný školský polrok členený na mesiace (miesto       a  termíny konania zasadnutí klub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oznam účastníkov klubu, ktorý bude obsahovať najmä tieto údaje : názov klubu, meno a priezvisko účastníka klubu a koordinátora klubu, aprobácia učiteľa, počet hodín,  na ktorých sa v rámci klubu zúčastn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oznam zdrojov financovania klubu učiteľov (napr. NP, DOP, iné zdroj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práva o činnosti klubu, vrátane prezenčných listín (za každé stretnutie zvlášť), odkaz na webové sídlo, kde sú správy zverejnené, správa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ísomný výstup (ak relevantné) odkaz na webové sídlo , kde sú písomné výstupy zverejnené, výstupy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finančnej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a sa, že sa  aktivity reálne vykonávajú v deklarovanom rozsahu v projekte. Finančná  kontrola na mieste sa bude vykonávať primárne ako neohlásená finančná kontrola na mieste. Pri plánovaní neohlásenej finančnej kontrole na mieste sa bude vychádzať z Plánu práce klubu, ktorý je Prijímateľ povinný zaslať Poskytovateľovi najmenej 7 dní vopred pred uskutočnením aktivity. Prípadné zmeiny v konaní aktivity je Prijímateľ povinný poskytovateľovi oznámi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tejto kontroly bude overenie konania aktivity, overenie počtu osôb, prípadne rozhovor s účastníkmi za účelom overenia si konania aktivity, prípadne spokojnosti s realizovanými aktivitam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každom dopytovo-orientovanom projekte musí byť vykonaná min. 1 finančná kontrola na mieste počas jeho realiz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kontroly bude aj overenie, či realizácia aktivít prebieha v súlade so schváleným projekt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zdelávanie pedagogických zamestnancov (PZ) a odborných zamestnancov (OZ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edná sa o akreditované kontinuálne vzdelávanie (ďalej len „KV“)  ako aj o neakreditované vzdelávanie. Ide o vzdelávanie poskytované prijímateľom (t.j. jeho zamestnancami – internými a/alebo externými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ednotková cena sa nevzťahuje na vzdelávanie poskytovaného externými spoločnosťami (t.j. vzdelávanie zabezpečované/realizované prostredníctvom verejného obstarávani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Štandardná stupnica jednotkových nákladov j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skupinu s 20 účastníkmi: 10,10 EUR na hodinu účastníka vzdel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skupinu s 12 účastníkmi (IKT a jazykové vzdelávanie): 10,65 EUR na hodinu účastníka vzdel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Cieľom je zavedenie jednotkových nákladov na zvýšenie počtu hodín školského vzdelávacieho programu resp. učebného plánu nad rámec hodín povinne stanovených a financovaných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pre učiteľa ZŠ 11, 70 Eur/1 extra hodina (60 minú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Rozsah extra hodín na školu a školský rok je stanovený ma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pre ZŠ I. stupeň max. 12 hodín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týždenne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(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pre ZŠ II. stupeň max. 15 hodín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týždenne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( 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Extra hodiny sú financované nad rámec hodín financovaných zo štátneho rozpočtu, t.j. predstavujú doplnok zdrojov k zdrojom štátneho rozpočtu. Extra hodina trvá 60 minút a je zložená zo 45 minútovej vyučovacej hodiny a 15 minútovej prípravy na vyučovaciu hodin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ozhodnutie o obsahu extra hodín je na rozhodnutí školy, podľa svojho zamerania a potrieb, pričom extra hodiny musia byť v súlade so štátnym a/alebo školským vzdelávacím program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1280" y="141768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Akreditované vzdelávan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odľa zákona č. 317/2009 Z.z o pedagogických a odborných zamestnancov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dmetom/obsahom je akékoľvek vzdelávanie vedúce k rozšíreniu a/alebo zvýšeniu kvalifikácie a/alebo profesijných kompetencií a zručností PZ a OZ, a/alebo vedúce k ich osobnostnému ras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zdelávanie  je  realizované prezenčnou form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soba môže absolvovať to isté vzdelávanie iba raz. Jednotková cena (ďalej aj „JC“) bude preplatená iba v prípade, ak sa PZ/OZ zúčastní  min. 80% prezenčného vzdelávan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Neakreditované vzdeláva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dmetom/obsahom je akékoľvek vzdelávanie vedúce k rozšíreniu/rozvoju kvalifikácie a/alebo profesijných kompetencií a zručností PZ a OZ, a/alebo vedúce k ich osobnostnému rastu.  </a:t>
            </a: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Výstupom vzdelávania je certifikát o absolvovaní vzdelávani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zdelávanie je realizované prezenčnou form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soba môže absolvovať to isté vzdelávanie iba raz. JC bude preplatená iba v prípade, ak sa PZ/OZ zúčastní  min. 80% prezenčného vzdeláv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 prípade neakreditovaného vzdelávania sa počet prípustných hodín na trvanie vzdelávania v priebehu roka stanovuje na min. 10  hodín a na max.  55 hod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ijímateľ je povinný predložiť na MŠVVaŠ SR ako SO min. 7 dní pred začatím vzdelávania informáciu o konaní vzdelávania (miesto, čas konania vzdelávania, názov vzdelávan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jednotková cena nepokrýva všetky výdavky spojené s operáciou. Bude kombinovaná s ďalšími výdavkami – reálnymi výdavkami zahŕňajúcimi ubytovanie a nájom priestorov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 – t.j. bude kombinovaná s reálnymi výdavkami - ide o výdavky na nájom priestorov a ubytovanie lektorov a frekventant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Overovanie v rámci kontroly žiadosti o platb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finančné prostriedky budú uhradené prijímateľovi po ukončení vzdelávania 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(akreditovaného, neakreditovaného), t.j. až po absolvovaní vzdelávania frekventantom. Finančné prostriedky sú uhrádzané prijímateľovi na základe predloženia  potvrdenia o absolvovaní vzdelávania (napr. certifikát, osvedčeni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JC bude preplatená iba v prípade, ak sa PZ/OZ zúčastní  min. 80% prezenčného vzdelá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odmienky preplatenia  JC – doklady potrebné pre preplatenie jednotkovej ceny po absolvovaní vzdelávan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doklad o absolvovaní vzdelávania  - osvedčenie o ukončení kontinuálneho vzdelávania v prípade akreditovaného vzdeláv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doklad o absolvovaní vzdelávania  - certifikát o absolvovaní vzdelávania v prípade neakreditovaného vzdeláv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zoznam absolventov vzdelávania (meno a priezvisko, názov vzdelávania, rozsah vzdelávania, projekt, prijímateľ; miesto konania vzdelávania, adresa školy absolventa; počet hodín vzdelávania, ktorých sa absolvent zúčastnil) – usmernenie </a:t>
            </a:r>
            <a:r>
              <a:rPr b="0" lang="sk-SK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inedu.sk/usmernenie-k-ssjn-vzdelavanie-pedagogickych-a-odbornych-zamestnancov-–-zoznam-absolventov-vzdelavania/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zenčné listiny účastníkov vzdelávania v prípade neakreditovaného vzdeláv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Súčasťou overovania žiadosti o platbu budú aj nasledovné skutočnos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verovanie duplicít účasti frekventantov na tom istom vzdelávaní – overovanie duplicít bude prebiehať prostredníctvom databázy absolventov vzdelávania, ktorá bude obsahovať všetky projekty, v ktorých sa realizovalo vzdelávanie; databáza vzdelávania bude vytvorená na základe údajov uvedených v zozname absolventov, ktorý predkladá prijímateľ  ako doklad/podmienku pre preplatenie jednotkovej ce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verenie, či frekventant absolvoval 80% prezenčného vzdelávania – na základe údajov uvedených v zozname absolvent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e sa, že školenia sa vykonávajú v deklarovanom rozsahu. Kontrola na mieste sa bude vykonávať primárne ako neohlásená kontrola na mieste. Predmetom kontroly bude overenie konania aktivity, overenie počtu osôb, prípadne rozhovor s účastníkmi za účelom overenia si konania aktivity, prípadne spokojnosti s realizovaným školením. V prípade akreditovaných vzdelávacích programov budú predmetom overovania aj prezenčné listiny účastníkov vzdelávan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 školy vyučujúceho extra hodiny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výšený počet hodín nad rámec hodín financovaných zo štátneho rozpočtu môže škola využiť 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é rozširujú a prehlbujú obsah predmetov zaradených do štátneho vzdelávacieho progra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é si škola sama zvolí a sama si pripraví ich obsah, vrátane predmetov vytvárajúcich profiláciu školy a experimentálne overených inovačných programov zavedených do vyučovacej prax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ých obsah je doplnením vyučovacieho predmetu pre žiakov so špeciálnymi výchovno-vzdelávacími potrebami, ktorí nemôžu napredovať v rámci bežných vyučovacích hodín a ktorí postupujú podľa individuálnych vzdelávacích program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pecifické vyučovacie predmety pre žiakov so špeciálnymi výchovno-vzdelávacími potrebam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dporu gramotnosti v oblasti IKT a cudzích jazykov a ďalších vzdelávacích aktivít vyplývajúcich zo školského vzdelávacieho progra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ýdavkov – jednotkovej ceny bude prebiehať v 3 etapá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ámci konania žiadosti o NFP (t.j. v rámci hodnotiaceho procesu žiadosti o NF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ámci administratívnej finančnej kontroly žiadosti o 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čas finančnej kontroly na mies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 rámci administratívnej finančnej kontroly žiadosti o plat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čné prostriedky budú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plácané na štvrťročnej báz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čné prostriedky sú uhrádzané prijímateľovi na základe zdokladovania skutočne realizovaných zvýšených hodín vzdelávacích aktiví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dmienky preplatenia JC - JC bude preplácaná na základe nasledovných  dokladov, ktoré predloží prijímate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Raz ročne a pri každej zmen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aktuálny učebný plán resp. školský vzdelávací program zahrňujúci zvýšené hodiny nad rámec hodín financovaných zo štátneho rozpočtu resp. iný dokument stanovujúci rozsah hodín; v dokumentoch budú jasne vyznačené extra hodiny financované v rámci projektu; prijímateľ preukáže, že sa jedná o extra hodiny, ktoré nie sú financované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ozvrh hodín s vyznačením extra hodín financovaných z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atná pracovná zmluva pedagogického zamestnan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každej ŽoP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tatutárom školy potvrdený menný zoznam učiteľov a počet hodín jednotlivých učiteľov, ktorí zabezpečovali/realizovali zvýšené hodiny vzdelávacích aktiví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tvrťročné správy o činnosti PZ podľa jednotlivých škôl, vrátane popisu extra hodí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ak relevantné, dokumenty preukazujúce výšku školného plateného rodičmi pred a počas realizácie projektu; v prípade, ak je školné počas implementácie projektu vyššie, musí prijímateľ poskytnúť zdôvodnenie jeho zvýšenia, vrátane potrebnej podpornej dokument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finančnej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a sa, že sa  extra hodiny reálne vykonávajú v deklarovanom rozsahu stanovenom v projekte. Finančná  kontrola na mieste sa bude vykonávať primárne ako neohlásená finančná kontrola na mieste. Pri plánovaní neohlásenej finančnej kontroly na mieste sa bude vychádzať z rozvrhu hodín predloženého ako súčasť Ž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tejto kontroly bude overenie konania aktivity, overenie počtu osôb, prípadne rozhovor s účastníkmi za účelom overenia si konania aktivity, prípadne spokojnosti s realizovaným aktivity. Okrem toho bude overovaná pedagogická dokumentácia súvisiaca s extra hodinami (napr. triedna kniha, dochádzka žiak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každom dopytovo-orientovanom projekte musí byť vykonaná min. 1 finančná kontrola na mieste počas jeho realiz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hodinova-sadzba-ucitelaucitelov-podla-kategorie-skol-zs-ss-pocet-hodin-stravenych-vzdelavacimi-aktivitami-„extra-hodiny“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</a:t>
            </a:r>
            <a:r>
              <a:rPr b="0" lang="sk-SK" sz="3200" spc="-1" strike="noStrike">
                <a:solidFill>
                  <a:srgbClr val="c00000"/>
                </a:solidFill>
                <a:latin typeface="Calibri"/>
              </a:rPr>
              <a:t>V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Zástupný objekt pre obsah 6"/>
          <p:cNvGraphicFramePr/>
          <p:nvPr/>
        </p:nvGraphicFramePr>
        <p:xfrm>
          <a:off x="3043080" y="1600200"/>
          <a:ext cx="3057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Zástupný objekt pre obsah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1600200"/>
                    <a:ext cx="3057840" cy="452592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 vyplneniu Štvrťročnej správy o činnosti pedagogického zamestnanca „extra hodiny“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4. V riadku Meno a priezvisko zamestnanca – uvedie sa meno a priezvisko pedagogického zamestnanca  ktorý  predmetnú činnosť vykonáv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5. Druh školy – uvedie sa škola, na ktorej bola realizovaná vzdelávacia aktivita (ZŠ I. stupeň, ZŠ II. Stupeň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6. V riadku Názov a číslo rozpočtovej položky projektu - uvedie sa názov a číslo rozpočtovej položky podľa zmluvy o NF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7. V riadku Obdobie vykonávania činnosti – uvedie sa obdobie, za ktoré sa štvrťročná správa o činnosti predkladá. Obdobie sa uvádza v nasledovnom formáte DD.MM.RRRR – DD.MM.RRR, ( napr.01.01.2018 – 31.03.2018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8. V riadku Správa o činnosti - uvedú a popíšu sa činnosti, ktoré pedagogický zamestnanec vykonával v rámci „extra hodín“  v danom štvrťroku za každý mesiac samostatne . Ide o činnosti, ktoré boli zabezpečované nad rámec hodín financovaných zo štátneho rozpoč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9-03-05T11:31:17Z</cp:lastPrinted>
  <dcterms:modified xsi:type="dcterms:W3CDTF">2019-03-05T11:59:26Z</dcterms:modified>
  <cp:revision>185</cp:revision>
  <dc:subject/>
  <dc:title>Snímka 1</dc:title>
</cp:coreProperties>
</file>